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641-E757-4528-94C0-26DFB513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21B-8FBD-4A63-BA21-60B14AB8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538-303E-4B0A-A365-CE00ABEB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2B9-2747-45FF-8050-B17EBFF8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94F-0BC2-417A-91B1-649A54B4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60D-7166-4694-B035-24EB9CA9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B49-B4A4-422D-A0B4-DBE2DD2B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468-9AC7-4E04-BDF7-BE3DAFE7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145-3B6F-4E71-B2F3-96082B10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61C-236A-4B84-B0D2-9D28013E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D25-F9DC-48DE-B238-A799F30D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401-4644-4535-9E3B-169BA918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875E-CD68-4FB2-9293-B8222203EECE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F770-B716-400A-AED3-8DEC8667B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ndlive.biz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tephane.etienne@orange.f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br>
              <a:rPr sz="4400"/>
            </a:b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windlive.bi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699920"/>
            <a:ext cx="7128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898989"/>
                </a:solidFill>
                <a:latin typeface="Calibri"/>
              </a:rPr>
              <a:t>Regatta Weather Assistant</a:t>
            </a:r>
            <a:br>
              <a:rPr sz="2500"/>
            </a:br>
            <a:r>
              <a:rPr b="0" lang="fr-FR" sz="2500" spc="-1" strike="noStrike">
                <a:solidFill>
                  <a:srgbClr val="898989"/>
                </a:solidFill>
                <a:latin typeface="Calibri"/>
              </a:rPr>
              <a:t>Remote Real Time Wind Logging and Data Display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3386160"/>
          </a:xfrm>
          <a:prstGeom prst="rect">
            <a:avLst/>
          </a:prstGeom>
          <a:ln w="0">
            <a:noFill/>
          </a:ln>
        </p:spPr>
      </p:pic>
      <p:sp>
        <p:nvSpPr>
          <p:cNvPr id="4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4B7C-77DF-4787-8FF7-33D976D6A722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3AAB-6A27-4857-97C1-7A814F5D7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Regatta Weather Assi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1D28-2677-4E51-82BF-F1C24EC5A1EF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AA08-4741-4D04-B3DA-A3347079D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187280" y="2708280"/>
            <a:ext cx="676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More Detail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F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 avenue de Plai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4830 Bouaye –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irman : Stéphane Et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ail :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tephane.etienne@orange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l : + 33 6 08915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F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Brings Alternative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7285-0360-4A30-9B3E-A5711CAC6ADB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5771880" cy="4077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6227640" y="2565360"/>
            <a:ext cx="252108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FM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 a non lucrative organisation which aim is to bring trained blind people toward the sailing compet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using the principale of equivalence of chance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stead of looking for conventional sponsorship, AFM’s is using the know how of its affiliates to bring added value concepts off shore which can generate reven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includes, electronic, web, composites, and mecanical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B49C-0F10-494A-B86E-8AC5A8127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finition of the Core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viding decision tool 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ace comitee to mature their decision both on shore and o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mpetitor to define the final tuning of their rigs prior to go off sh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mpetitor to settle their decision to attend to a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llateral effec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st impact by saving need to go on water to collect weath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Liability of comitee by providing information regarding weather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ditions on water to the r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Provide additional potential web exposure to event parn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1A65-1E51-426C-8C70-97D1D71D4C60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0FFA-1A24-45BF-97F6-95211ACCD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finition of the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84360" y="2492280"/>
            <a:ext cx="77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viding  Real Time Weather Conditions using Remote access to Web Ser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Weather datalogging : Wind,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emote 3/4G Datalogging Upload toward Cloud Data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emote Wifi/3G/4G Weather Data download to mobil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Web Cam functionality can be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AF44-6301-4348-977D-5A0EAF441CED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571B-0235-4582-9607-3C722D4BF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nciple of 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C2F8-F3D5-4B99-B00B-A71544293CAF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900A-B010-44D9-9429-B4DC96242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nciple of Scen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ind Buoy is positioned close to estimated up-wind ma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eather data remain displayed on shore to define best time for comitee to decide to go off shore and allow racers to best tune their ri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hile racing the data display allow decision settlement in terms of rac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72160" y="1484280"/>
            <a:ext cx="3976560" cy="4681440"/>
          </a:xfrm>
          <a:prstGeom prst="rect">
            <a:avLst/>
          </a:prstGeom>
          <a:ln w="0">
            <a:noFill/>
          </a:ln>
        </p:spPr>
      </p:pic>
      <p:sp>
        <p:nvSpPr>
          <p:cNvPr id="7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C726-B3CE-441A-8660-C84FE55C2843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70D8-0181-42EA-B3F3-751AD69BB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ta Display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23144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al Time 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freshed data per 3se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29FD-D9B4-486C-BC94-1F6680074982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DA7-D9BC-4E08-9156-BC3FEDA5D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2447640" cy="36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3132000" y="2276640"/>
            <a:ext cx="2503800" cy="3744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059280" y="17002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aphical Data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6012000" y="2276640"/>
            <a:ext cx="2752560" cy="3728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12"/>
          <p:cNvSpPr/>
          <p:nvPr/>
        </p:nvSpPr>
        <p:spPr>
          <a:xfrm>
            <a:off x="6012000" y="170028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oogle Map Buoy 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Regatta Weather Assi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C653-848C-45AE-A414-ECC562B2CC2A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0CFE-D4CC-4E6B-A8F8-35451A1DA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324000" y="2708280"/>
            <a:ext cx="4032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ct Leade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ncent Bafour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ectromecanical Integration &amp; Data mana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ieux Simmonet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B/Android Interfac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éphane Etien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ategy 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716360" y="2781360"/>
            <a:ext cx="4176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urce of Knowledg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udovic Mouho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ather Analy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 Duclo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oud Data and Virtual Machines Mana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ind Buo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Regatta Weather Assi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C30D-3ABF-41B4-87CF-DEDA45F62201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AFMs - Brings Alternative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120B-2638-4375-B2F8-F22A44026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187280" y="2708280"/>
            <a:ext cx="67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ject Schedu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1/2014 – Budget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2/2014 – Hardware Definition and 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2/2014 – Integration &amp; Preliminary Functiona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3/2014 – Initial True Liv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Physical Buoy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4/2014 – Machine/Human interface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5/2014 – True In Situ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6/2014 – Implementation Testing at Aclass Europ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16:54:50Z</dcterms:created>
  <dc:creator>stephane.etienne</dc:creator>
  <dc:description/>
  <dc:language>en-US</dc:language>
  <cp:lastModifiedBy>stephane.etienne</cp:lastModifiedBy>
  <dcterms:modified xsi:type="dcterms:W3CDTF">2014-03-01T08:49:38Z</dcterms:modified>
  <cp:revision>13</cp:revision>
  <dc:subject/>
  <dc:title>Wind Buoy</dc:title>
</cp:coreProperties>
</file>