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724-937A-4C95-BC33-500748EB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C18-3199-464F-AA08-63A257EB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A3D-5361-41F9-BE6A-A6B5263F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678-87C4-453C-9C0D-E2782470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32B-F218-4C3A-A538-EFC74EF2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587-E268-4054-A6B3-FDC5540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7C-1921-4AD0-B5B2-FAEF870A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511-7535-4730-B6E7-D4F37A76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C7E-E3F7-4EB0-88C1-0D29D43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540-BD68-4F0B-BF43-DE63E6DC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042-6D67-4D8C-91A1-B3009DD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7E3-B362-469C-8032-1E5C0D9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682-C9F6-4091-A46F-6C1483B10B3C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858-1255-466A-B294-F0EB696B3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live.bi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tephane.etienne@orange.f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br>
              <a:rPr sz="4400"/>
            </a:b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ndlive.bi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128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br>
              <a:rPr sz="2500"/>
            </a:br>
            <a:r>
              <a:rPr b="0" lang="fr-FR" sz="2500" spc="-1" strike="noStrike">
                <a:solidFill>
                  <a:srgbClr val="898989"/>
                </a:solidFill>
                <a:latin typeface="Calibri"/>
              </a:rPr>
              <a:t>Remote Real Time Wind Logging and Data Display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3386160"/>
          </a:xfrm>
          <a:prstGeom prst="rect">
            <a:avLst/>
          </a:prstGeom>
          <a:ln w="0">
            <a:noFill/>
          </a:ln>
        </p:spPr>
      </p:pic>
      <p:sp>
        <p:nvSpPr>
          <p:cNvPr id="4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476-B8C7-43DF-BC06-5A5883B587F4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A4B-93A5-4D23-AEB2-3DB7BAF31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E175-AE01-4C12-B1EF-70C39D96D582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3997-F939-4AD3-88AA-BA3700154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187280" y="2708280"/>
            <a:ext cx="67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More Detai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 avenue de Plai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4830 Bouaye –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irman : Stéphane Et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ail 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tephane.etienne@orange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l : + 33 6 08915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F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rings Alternativ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6429-171A-4860-838C-37C5F7407946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771880" cy="4077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6227640" y="2565360"/>
            <a:ext cx="252108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M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 a non lucrative organisation which aim is to bring trained blind people toward the sailing compet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using the principale of equivalence of chance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stead of looking for conventional sponsorship, AFM’s is using the know how of its affiliates to bring added value concepts off shore which can generate reven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ncludes, electronic, web, composites, and mecanic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BB67-1670-4850-B5FE-39E6CE253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finition of the Core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viding decision tool 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ace comitee to mature their decision both on shore and o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mpetitor to define the final tuning of their rigs prior to go off sh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mpetitor to settle their decision to attend to a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llateral effec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st impact by saving need to go on water to collect wea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iability of comitee by providing information regarding weather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ditions on water to the 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Provide additional potential web exposure to event parn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521-493F-4396-9167-65F9C570878B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2D1-4E5E-482F-B3EE-8EA6D79A9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finition of th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4360" y="2492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viding  Real Time Weather Conditions using Remote access to Web 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Weather datalogging : Wind,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mote 3/4G Datalogging Upload toward Cloud Data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mote Wifi/3G/4G Weather Data download to mobil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Web Cam functionality can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7AC-F1BF-481D-8E91-A677D4909F4E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C13-7A16-415F-B0E0-23EF58063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AA1-85CA-43B2-8E95-D95F670952F6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B1E-E2B3-4984-8ADB-C4A904E30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le of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d Buoy is positioned close to estimated up-wind m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eather data remain displayed on shore to define best time for comitee to decide to go off shore and allow racers to best tune their ri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hile racing the data display allow decision settlement in terms of rac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72160" y="1484280"/>
            <a:ext cx="3976560" cy="468144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2ED7-93A1-4FF1-84E1-3313ECCCB1B5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F2F-22ED-4657-AF9A-D498202EF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Display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2314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al Tim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freshed data per 3s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FC80-127F-4E50-80A3-79BC0F327761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9E3-5A04-45A5-9706-A120D5F40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447640" cy="36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503800" cy="374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059280" y="1700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phical Data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6012000" y="2276640"/>
            <a:ext cx="2752560" cy="37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2"/>
          <p:cNvSpPr/>
          <p:nvPr/>
        </p:nvSpPr>
        <p:spPr>
          <a:xfrm>
            <a:off x="6012000" y="170028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oogle Map Buoy 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8ED-6CDE-48CF-A31D-4F5A8D69937B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E7C2-03C7-4FFB-BFED-06B28DDF7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24000" y="2708280"/>
            <a:ext cx="4032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ct Leade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ncent Bafour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ectromecanical Integration &amp; Data man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ieux Simmonet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/Android Interf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éphane Etien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tegy 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716360" y="2781360"/>
            <a:ext cx="4176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rce of Knowledg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udovic Mouho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ather Analy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 Ducl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oud Data and Virtual Machines Man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8D8-F21E-466C-B8C1-D6620D428184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FBE8-AF8F-47E4-AE2A-BEC58E9BB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187280" y="2708280"/>
            <a:ext cx="67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ct Schedu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1/2014 – Budget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2/2014 – Hardware Definition and 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2/2014 – Integration &amp; Preliminary Functiona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3/2014 – Initial True Liv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Physical Buoy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4/2014 – Machine/Human interface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5/2014 – True In Situ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6/2014 – Implementation Testing at Aclass 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6:54:50Z</dcterms:created>
  <dc:creator>stephane.etienne</dc:creator>
  <dc:description/>
  <dc:language>en-US</dc:language>
  <cp:lastModifiedBy>stephane.etienne</cp:lastModifiedBy>
  <dcterms:modified xsi:type="dcterms:W3CDTF">2014-03-01T08:49:38Z</dcterms:modified>
  <cp:revision>13</cp:revision>
  <dc:subject/>
  <dc:title>Wind Buoy</dc:title>
</cp:coreProperties>
</file>